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40A-EBBB-4CCB-89B4-679F40BD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1F74-BBD4-4970-B8F5-6F84C19F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02B-B2DA-46A6-A90F-226FDFB7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DD5-F6AF-46FD-A9A2-C4D5D599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72C-AEE4-451B-95C7-4F71CFA8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EFE-E303-4890-94DB-9AC4F8A7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47E-566D-40D7-98C1-99FA95C5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E17-879B-417E-9338-0E1C70A5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839-39DB-4CF4-A3C7-125E744B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F08-95DD-4E50-9B38-50AEFD69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648-D76E-49CB-9DAD-550BD19C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201-1A4E-4922-8C64-EF96A453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굴림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굴림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굴림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  <a:p>
            <a:pPr lvl="3" marL="1825560" indent="-260280">
              <a:spcBef>
                <a:spcPts val="924"/>
              </a:spcBef>
              <a:buClr>
                <a:srgbClr val="000000"/>
              </a:buClr>
              <a:buFont typeface="굴림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굴림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굴림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굴림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ko-KR" sz="16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ko-KR" sz="16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ko-KR" sz="16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213950B-6459-4B5E-9E7F-C41E19433168}" type="slidenum">
              <a:rPr b="0" lang="ko-KR" sz="16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KEDI 3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굴림"/>
              </a:rPr>
              <a:t>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9623160" cy="4991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 algn="ctr">
              <a:spcBef>
                <a:spcPts val="6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90600" indent="0" algn="ctr">
              <a:spcBef>
                <a:spcPts val="6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90600" indent="0" algn="ctr">
              <a:spcBef>
                <a:spcPts val="6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90600" indent="0" algn="ctr">
              <a:spcBef>
                <a:spcPts val="11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4800" spc="-1" strike="noStrike">
                <a:solidFill>
                  <a:srgbClr val="808080"/>
                </a:solidFill>
                <a:latin typeface="굴림"/>
                <a:ea typeface=""/>
              </a:rPr>
              <a:t>한국교육개발원 </a:t>
            </a:r>
            <a:r>
              <a:rPr b="1" lang="ko-KR" sz="4800" spc="-1" strike="noStrike">
                <a:solidFill>
                  <a:srgbClr val="808080"/>
                </a:solidFill>
                <a:latin typeface="굴림"/>
                <a:ea typeface=""/>
              </a:rPr>
              <a:t>C.I </a:t>
            </a:r>
            <a:r>
              <a:rPr b="1" lang="ko-KR" sz="4800" spc="-1" strike="noStrike">
                <a:solidFill>
                  <a:srgbClr val="808080"/>
                </a:solidFill>
                <a:latin typeface="굴림"/>
                <a:ea typeface=""/>
              </a:rPr>
              <a:t>리뉴얼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90600" indent="0" algn="ctr">
              <a:spcBef>
                <a:spcPts val="6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ko-KR" sz="2400" spc="-1" strike="noStrike">
                <a:solidFill>
                  <a:srgbClr val="808080"/>
                </a:solidFill>
                <a:latin typeface="굴림"/>
                <a:ea typeface=""/>
              </a:rPr>
              <a:t>Corporate Identity RENEW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90600" indent="0" algn="ctr"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90600" indent="0" algn="ctr"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9:03:19Z</dcterms:created>
  <dc:creator>joodesign</dc:creator>
  <dc:description/>
  <dc:language>en-US</dc:language>
  <cp:lastModifiedBy>LUGZ</cp:lastModifiedBy>
  <dcterms:modified xsi:type="dcterms:W3CDTF">2004-08-27T00:34:36Z</dcterms:modified>
  <cp:revision>5</cp:revision>
  <dc:subject/>
  <dc:title>슬라이드 1</dc:title>
</cp:coreProperties>
</file>